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A54-90F1-4ED3-934D-7A80992F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9BE-F3AC-4677-9335-0E466BF3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6A6-A616-4DEA-8104-0F81757B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FAE-7F99-4F81-976B-E0D25110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88F-D144-4CBA-A83D-1AA51E5D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6E4-E37D-4100-BC69-04A61689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C8D-50BC-45E2-BD45-832968DD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BAD-99AF-418F-8CB0-5BECB91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C6B-9102-4431-9725-352C0557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A9D-96E2-49BC-882A-A8541F2C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E01-0998-437F-842A-77B0CFB4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E46-89C1-416D-BE83-2AE0E5D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FC7D-0E39-4B53-BA7E-974E5918D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Text Box 12"/>
          <p:cNvSpPr/>
          <p:nvPr/>
        </p:nvSpPr>
        <p:spPr>
          <a:xfrm>
            <a:off x="900000" y="3333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Шостье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1258920" y="2421000"/>
            <a:ext cx="6696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Ответственность родителей 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ных представителей)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оспитание   и образование своих детей»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5042520" y="4941720"/>
            <a:ext cx="38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социальный 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валификационной 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никова Ольга Викто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3279240" y="6237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2845440" y="1628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84360" y="4357800"/>
            <a:ext cx="80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За неисполнение или ненадлежащее исполнение обязанностей, установленных настоящим Федеральным законом и иными федеральными законами, родители (законные представители) несовершеннолетних обучающихся несут ответственность, предусмотренную законодательством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iCA261903"/>
          <p:cNvPicPr/>
          <p:nvPr/>
        </p:nvPicPr>
        <p:blipFill>
          <a:blip r:embed="rId2"/>
          <a:stretch/>
        </p:blipFill>
        <p:spPr>
          <a:xfrm>
            <a:off x="2700360" y="333360"/>
            <a:ext cx="3816360" cy="38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003"/>
          <p:cNvPicPr/>
          <p:nvPr/>
        </p:nvPicPr>
        <p:blipFill>
          <a:blip r:embed="rId2"/>
          <a:stretch/>
        </p:blipFill>
        <p:spPr>
          <a:xfrm>
            <a:off x="468360" y="1341360"/>
            <a:ext cx="2538360" cy="395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Text Box 7"/>
          <p:cNvSpPr/>
          <p:nvPr/>
        </p:nvSpPr>
        <p:spPr>
          <a:xfrm>
            <a:off x="3132000" y="1341360"/>
            <a:ext cx="57610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12. Права и обязанности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56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ребенка на защи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6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а и обязанности родителей по воспитанию и образова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65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 родительских пра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69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ение родительских пра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77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ние ребенка при непосредственной угрозе жизни ребенка или его здо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3348000" y="1341360"/>
            <a:ext cx="55450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5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 ребенка на защи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имеет право на защиту своих прав и законных интере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ебенок имеет право на защиту от злоупотреблений со стороны родителей (лиц, их заменяющи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Должностные лица организаций и иные граждане, которым станет известно об угрозе жизни или здоровью ребенка, о нарушении его прав и законных интересов, обязаны сообщить об этом в орган опеки и попечительства по месту фактического нахождения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CAJMI0Q0"/>
          <p:cNvPicPr/>
          <p:nvPr/>
        </p:nvPicPr>
        <p:blipFill>
          <a:blip r:embed="rId2"/>
          <a:stretch/>
        </p:blipFill>
        <p:spPr>
          <a:xfrm>
            <a:off x="539640" y="836640"/>
            <a:ext cx="2664000" cy="225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6" descr="iCA55FVQ6"/>
          <p:cNvPicPr/>
          <p:nvPr/>
        </p:nvPicPr>
        <p:blipFill>
          <a:blip r:embed="rId3"/>
          <a:stretch/>
        </p:blipFill>
        <p:spPr>
          <a:xfrm>
            <a:off x="468360" y="3716280"/>
            <a:ext cx="2808360" cy="21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395280" y="3789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63. Права и обязанности родителей по воспитанию и образованию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имеют право и обязаны воспитывать сво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CABS3SP0"/>
          <p:cNvPicPr/>
          <p:nvPr/>
        </p:nvPicPr>
        <p:blipFill>
          <a:blip r:embed="rId2"/>
          <a:stretch/>
        </p:blipFill>
        <p:spPr>
          <a:xfrm>
            <a:off x="2411280" y="404640"/>
            <a:ext cx="4248360" cy="280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84360" y="3716280"/>
            <a:ext cx="8064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65. Осуществл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ьские права не могут осуществляться в противоречии с интересами детей. Обеспечение интересов детей должно быть предметом основной заботы их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опросы, касающиеся воспитания и образования детей, решаются родителями по их взаимному согласию исходя из интересов детей и с учетом мнения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CACKN7VH"/>
          <p:cNvPicPr/>
          <p:nvPr/>
        </p:nvPicPr>
        <p:blipFill>
          <a:blip r:embed="rId2"/>
          <a:stretch/>
        </p:blipFill>
        <p:spPr>
          <a:xfrm>
            <a:off x="1619280" y="476280"/>
            <a:ext cx="5975280" cy="310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68360" y="2880000"/>
            <a:ext cx="842472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69.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лонение от родительских обязан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оупотребление родительскими пра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окое обращение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нический алкоголизм, нарко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77. Отобрание ребенка при непосредственной угрозе жизни ребенка или его здоро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и непосредственной угрозе жизни ребенка или его здоровью орган опеки и попечительства вправе немедленно отобрать ребенка у родителей (одного из них) или у других лиц, на попечении которых он наход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2398680" cy="36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5" name="Picture 9" descr=""/>
          <p:cNvPicPr/>
          <p:nvPr/>
        </p:nvPicPr>
        <p:blipFill>
          <a:blip r:embed="rId3"/>
          <a:stretch/>
        </p:blipFill>
        <p:spPr>
          <a:xfrm>
            <a:off x="3203640" y="404640"/>
            <a:ext cx="3041640" cy="226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6" name="Picture 10" descr="iCA23REC2"/>
          <p:cNvPicPr/>
          <p:nvPr/>
        </p:nvPicPr>
        <p:blipFill>
          <a:blip r:embed="rId4"/>
          <a:stretch/>
        </p:blipFill>
        <p:spPr>
          <a:xfrm>
            <a:off x="250920" y="476280"/>
            <a:ext cx="2735280" cy="1816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1"/>
          <p:cNvPicPr/>
          <p:nvPr/>
        </p:nvPicPr>
        <p:blipFill>
          <a:blip r:embed="rId2"/>
          <a:stretch/>
        </p:blipFill>
        <p:spPr>
          <a:xfrm>
            <a:off x="684360" y="1413000"/>
            <a:ext cx="2468520" cy="400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Rectangle 8"/>
          <p:cNvSpPr/>
          <p:nvPr/>
        </p:nvSpPr>
        <p:spPr>
          <a:xfrm>
            <a:off x="3348000" y="1713960"/>
            <a:ext cx="542916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16. Преступления против жизни 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25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вление в 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20. Преступления против семьи и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56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олнение обязанностей по воспитанию несовершеннолет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95280" y="4221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25. Оставление в 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домое оставление без помощи лица, находящегося в опасном для жизни или здоровья состоя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инимальное наказ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штраф в размере 80 000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ксимальное наказ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лишение свободы сроком до 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CA4R0GZN"/>
          <p:cNvPicPr/>
          <p:nvPr/>
        </p:nvPicPr>
        <p:blipFill>
          <a:blip r:embed="rId2"/>
          <a:stretch/>
        </p:blipFill>
        <p:spPr>
          <a:xfrm>
            <a:off x="611280" y="404640"/>
            <a:ext cx="3816360" cy="286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5" descr="iCAN0U76W"/>
          <p:cNvPicPr/>
          <p:nvPr/>
        </p:nvPicPr>
        <p:blipFill>
          <a:blip r:embed="rId3"/>
          <a:stretch/>
        </p:blipFill>
        <p:spPr>
          <a:xfrm>
            <a:off x="4932360" y="476280"/>
            <a:ext cx="345600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24000" y="328500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56. Неисполнение обязанностей по воспитанию несовершеннолет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олнение или ненадлежащее исполнение обязанностей по воспитанию несовершеннолетнего родителем или иным лицом, на которое возложены эти обязанности, а равно педагогом или другим работником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мальное наказ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штраф в размере 100 000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мальное наказ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лишение свободы сроком до 5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iCAXIF9SR"/>
          <p:cNvPicPr/>
          <p:nvPr/>
        </p:nvPicPr>
        <p:blipFill>
          <a:blip r:embed="rId2"/>
          <a:stretch/>
        </p:blipFill>
        <p:spPr>
          <a:xfrm>
            <a:off x="324000" y="333360"/>
            <a:ext cx="2735280" cy="20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7" name="Picture 9" descr="iCA41SYQM"/>
          <p:cNvPicPr/>
          <p:nvPr/>
        </p:nvPicPr>
        <p:blipFill>
          <a:blip r:embed="rId3"/>
          <a:stretch/>
        </p:blipFill>
        <p:spPr>
          <a:xfrm>
            <a:off x="3348000" y="404640"/>
            <a:ext cx="2808360" cy="184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8" name="Picture 11" descr="iCAR9S9GD"/>
          <p:cNvPicPr/>
          <p:nvPr/>
        </p:nvPicPr>
        <p:blipFill>
          <a:blip r:embed="rId4"/>
          <a:stretch/>
        </p:blipFill>
        <p:spPr>
          <a:xfrm>
            <a:off x="6372360" y="404640"/>
            <a:ext cx="2376360" cy="2060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900000" y="610920"/>
            <a:ext cx="712800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защите нравственности и здоровья детей в Рязанской области(Закон Рязанской области от 03 апреля 2006 г №41-03 с доп. от 05.08.2015г №63-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 соответствии с Конституцией РФ, ФЗ  «Об основах системы профилактики безнадзорности  и правонарушений  несовершеннолетних», иными нормативными правовыми актами РФ и Рязанской области устанавливают меры  направленные   на обеспечение  физической , интеллектуальной , нравственной , психической безопасности  здоровья детей в Рязанской области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хождение детей, не достигших возраста 18 лет, в местах, нахождение в которых может причинить вред их здоровью, физическому, интеллектуальному, психическому, духовному и нравственному развит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хождение детей, не достигших возраста 16 лет, в ночное время в общественных местах без сопровождения родителей (иных законных представителей) или лиц, осуществляющих мероприятия с участием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ок определения органами местного самоуправления мест на территории муниципального образования, нахождение в которых несовершеннолетние не допуск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очное врем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2 до 06 часов местного времени в период с 1 октября по 30 апрел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3 часов до 06 часов местного времени в период с 1 мая по 30 сентяб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ста, запрещенные для посещения детьми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объекты (территории, помещения) юридических лиц или граждан, осуществляющих предпринимательскую деятельность (бары, пивны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ста, запрещенные для посещения детьми в ночное время,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щественные места, в том числе улицы, стадионы, парки, скверы, транспортные средства общего пользования, объекты (территории, помещения) юридических лиц или граждан, осуществляющих предпринимательскую дея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491184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16974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родителей обучающихся ответственного отношения к воспитанию своих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родителей умению правильно пользоваться родительскими пра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3492360" y="47628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8" descr="iCAIFWA6F"/>
          <p:cNvPicPr/>
          <p:nvPr/>
        </p:nvPicPr>
        <p:blipFill>
          <a:blip r:embed="rId2"/>
          <a:stretch/>
        </p:blipFill>
        <p:spPr>
          <a:xfrm>
            <a:off x="539640" y="4221000"/>
            <a:ext cx="2171880" cy="2143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250920" y="799920"/>
            <a:ext cx="8569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по осуществлению контроля за посещаемостью детьми общеобразовате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бщеобразовательное учреждение осуществляет контроль за посещаемостью обучающимися, воспитанниками занятий, предусмотренных учебным планом, в соответствии с уставом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одители обязаны в течение трех часов сообщить в образовательное учреждение причину, по которой ребенок не приступил к занят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случае, если причина пропусков уроков ребенком не является уважительной, а родители не предпринимают мер по возвращению ребенка в образовательное учреждение, образовательное учреждение должно уведомить о данном факте КДН и З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ДН и ЗП принимает меры в отношении учащихся, не посещающих уроки и родителей, которые не исполняют родительские обязанности, в соответствии с законодательством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(законные представители) ребенка несут ответственность за его воспитание, получение им общего образования в соответствии с федеральным законодатель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539640" y="1197000"/>
            <a:ext cx="828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евыполнение или ненадлежащее выполнение родительских обязанностей, а также за совершение правонарушений в отношении своих дет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несут административную, уголовную и иную ответственн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2124000" y="2852640"/>
            <a:ext cx="5112000" cy="33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WordArt 9"/>
          <p:cNvSpPr txBox="1"/>
          <p:nvPr/>
        </p:nvSpPr>
        <p:spPr>
          <a:xfrm>
            <a:off x="3276720" y="333360"/>
            <a:ext cx="26143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: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3348000" y="975960"/>
            <a:ext cx="547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 родителях, только на родителях лежит священнейшая обязанность сделать своих детей человеками, обязанность же учебных заведений – сделать их учеными, гражданами, членами государства на всех ступенях. Но кто не сделался прежде всего человеком, тот плохой гражданин. Так давайте же вместе будем делать наших детей человеками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Г. 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getImageCAHM69O2"/>
          <p:cNvPicPr/>
          <p:nvPr/>
        </p:nvPicPr>
        <p:blipFill>
          <a:blip r:embed="rId2"/>
          <a:stretch/>
        </p:blipFill>
        <p:spPr>
          <a:xfrm>
            <a:off x="324000" y="1268280"/>
            <a:ext cx="2793960" cy="3529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2195640" y="1773360"/>
            <a:ext cx="48290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491184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116000" y="620640"/>
            <a:ext cx="721980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ёнок учится то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идит у себя в дому: родители пример 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И.Пидкас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CA2NNWGN"/>
          <p:cNvPicPr/>
          <p:nvPr/>
        </p:nvPicPr>
        <p:blipFill>
          <a:blip r:embed="rId2"/>
          <a:stretch/>
        </p:blipFill>
        <p:spPr>
          <a:xfrm>
            <a:off x="2050920" y="3141720"/>
            <a:ext cx="5543640" cy="297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971640" y="2205000"/>
            <a:ext cx="750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я ООН о правах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ия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й Кодекс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ловный Кодекс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З «Об образовании в РФ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инистративный Кодекс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ы Рязанск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39640" y="4752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овные Зако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рмативно-правовые ак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491184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2"/>
          <p:cNvSpPr/>
          <p:nvPr/>
        </p:nvSpPr>
        <p:spPr>
          <a:xfrm>
            <a:off x="3851280" y="2133720"/>
            <a:ext cx="47005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ья 18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 имеют общую и первичную ответственность за воспитание и развитие ребенка. Они обязаны в первую очередь думать об интересах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6" descr="iCAO0681E"/>
          <p:cNvPicPr/>
          <p:nvPr/>
        </p:nvPicPr>
        <p:blipFill>
          <a:blip r:embed="rId2"/>
          <a:stretch/>
        </p:blipFill>
        <p:spPr>
          <a:xfrm>
            <a:off x="611280" y="1341360"/>
            <a:ext cx="2820960" cy="374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Picture 37" descr="iCAO0681E"/>
          <p:cNvPicPr/>
          <p:nvPr/>
        </p:nvPicPr>
        <p:blipFill>
          <a:blip r:embed="rId3"/>
          <a:stretch/>
        </p:blipFill>
        <p:spPr>
          <a:xfrm>
            <a:off x="611280" y="1341360"/>
            <a:ext cx="2820960" cy="374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iCA7R4SRI"/>
          <p:cNvPicPr/>
          <p:nvPr/>
        </p:nvPicPr>
        <p:blipFill>
          <a:blip r:embed="rId2"/>
          <a:stretch/>
        </p:blipFill>
        <p:spPr>
          <a:xfrm>
            <a:off x="611280" y="1341360"/>
            <a:ext cx="2581200" cy="403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13"/>
          <p:cNvSpPr/>
          <p:nvPr/>
        </p:nvSpPr>
        <p:spPr>
          <a:xfrm>
            <a:off x="3564000" y="1052640"/>
            <a:ext cx="53290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3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нство и детство, семья находя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защитой госуда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бота о детях, их воспита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вное право и обязанность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ждый имеет право на обра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002"/>
          <p:cNvPicPr/>
          <p:nvPr/>
        </p:nvPicPr>
        <p:blipFill>
          <a:blip r:embed="rId2"/>
          <a:stretch/>
        </p:blipFill>
        <p:spPr>
          <a:xfrm>
            <a:off x="539640" y="1268280"/>
            <a:ext cx="2671920" cy="410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>
            <a:off x="3492360" y="1700280"/>
            <a:ext cx="5399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4. Обучающиеся и их 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законные представители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4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нности и ответственность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4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а, обязанности и ответственность в сфер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 (законных представителей) несовершеннолетних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68360" y="3573360"/>
            <a:ext cx="82803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неисполнение или нарушение Устава Школы, правил внутреннего распорядка и иных нормативных актов к обучающимся школы могут быть применены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ры дисциплинарного взыскания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ние, выговор, отчисление из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ешению Школы и с согласия КДН и ЗП за неоднократное совершение дисциплинарных поступков, допуск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отчисления несовершеннолетнего обучающегося, достигшего возраста 15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fg"/>
          <p:cNvPicPr/>
          <p:nvPr/>
        </p:nvPicPr>
        <p:blipFill>
          <a:blip r:embed="rId2"/>
          <a:stretch/>
        </p:blipFill>
        <p:spPr>
          <a:xfrm>
            <a:off x="2556000" y="404640"/>
            <a:ext cx="3889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CAD7ZFH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1258920" y="4869000"/>
            <a:ext cx="74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4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ители (законные представители) несовершеннолетних обучающих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яза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получение детьми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5832360" cy="32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01:19:42Z</dcterms:created>
  <dc:creator>user</dc:creator>
  <dc:description/>
  <dc:language>en-US</dc:language>
  <cp:lastModifiedBy>Сергей</cp:lastModifiedBy>
  <dcterms:modified xsi:type="dcterms:W3CDTF">2019-10-08T21:02:39Z</dcterms:modified>
  <cp:revision>137</cp:revision>
  <dc:subject/>
  <dc:title>Слайд 1</dc:title>
</cp:coreProperties>
</file>